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3.png" ContentType="image/png"/>
  <Override PartName="/ppt/media/image29.wmf" ContentType="image/x-wmf"/>
  <Override PartName="/ppt/media/image19.jpeg" ContentType="image/jpeg"/>
  <Override PartName="/ppt/media/image6.wmf" ContentType="image/x-wmf"/>
  <Override PartName="/ppt/media/image4.wmf" ContentType="image/x-wmf"/>
  <Override PartName="/ppt/media/image27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22.wmf" ContentType="image/x-wmf"/>
  <Override PartName="/ppt/media/image11.gif" ContentType="image/gif"/>
  <Override PartName="/ppt/media/image12.gif" ContentType="image/gif"/>
  <Override PartName="/ppt/media/image30.wmf" ContentType="image/x-wmf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9.gif" ContentType="image/gif"/>
  <Override PartName="/ppt/media/image5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EEF-5D03-4CB5-9D20-9538FA0A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282-8480-463E-A771-1B134F43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4F4-7467-4D30-9223-CAAC3C4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DED-20DD-4A36-B3C5-C7F33246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997-A3EB-495A-84DA-9705A2B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F1D-0771-4E0D-BD54-97826BA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0D0-9A4A-4691-B937-83D8FAF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C30-2F54-42BB-89F5-94C49B6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D2C-F4EE-411F-9A3C-FDB81685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FCE-4103-4967-BF10-46B8904C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B9B-2103-4CD9-A37D-921BB481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9E3-3827-4CD2-82C1-84ABED52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93F-E010-46B5-9FD2-860990E5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9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720" y="429264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@lineofsigh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720" y="85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771560"/>
            <a:ext cx="1656000" cy="12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1729080" cy="135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165564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0760" y="857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19040" y="1413000"/>
            <a:ext cx="138132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7680" y="422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1650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8040" y="857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1656000" cy="1612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1655640" cy="1119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58436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1523880"/>
            <a:ext cx="1655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2160" y="857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ock"/>
          <p:cNvSpPr/>
          <p:nvPr/>
        </p:nvSpPr>
        <p:spPr>
          <a:xfrm>
            <a:off x="1258920" y="1557360"/>
            <a:ext cx="1565280" cy="16034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1579680" cy="1827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1656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S CAN B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382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1125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SIN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5848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3357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84720" y="249228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92720" y="180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11640" y="1557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0920" y="1700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979640" y="3348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2411280" y="242100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2050920" y="443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62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97000" cy="296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4160" y="36655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Set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5632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86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22640" y="155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292720" y="1592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1484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1979640" y="3132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050920" y="422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62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3635280" y="566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4203720" y="134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340000" y="3357720"/>
            <a:ext cx="403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1280" y="1700280"/>
            <a:ext cx="50472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27280" y="1628280"/>
            <a:ext cx="151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87640" y="4365720"/>
            <a:ext cx="338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3213000"/>
            <a:ext cx="403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68360" y="2565360"/>
            <a:ext cx="3816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340000" y="1844640"/>
            <a:ext cx="2952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508360" y="1988640"/>
            <a:ext cx="86364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3280" y="784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8000" y="784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Lar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3348000" y="2492280"/>
            <a:ext cx="2303640" cy="1979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1480" y="784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40000" y="2340000"/>
            <a:ext cx="4583160" cy="2889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39600" y="1073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ore Linear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2440" y="375300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NETWORK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ne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d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eate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i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 ins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ket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friend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sts a common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1120" y="2128680"/>
            <a:ext cx="3589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7201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can either work for you or agains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siness cards are the most effective tool – use them wis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71640" y="2060640"/>
            <a:ext cx="6985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worked to b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will only get out what you pu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must identify the value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0937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he process of leveraging contacts and contacts of contacts in the furtherance of personal and busines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851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barter information, knowledge and influence to give personal or business advantage and to achieve specific objectives through non-specific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133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create opportunity for a great ‘bo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76360" y="148428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5680" y="857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9760" y="857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31580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80200" y="1413000"/>
            <a:ext cx="131616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131580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29520" y="4149720"/>
            <a:ext cx="1266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0080" y="857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139248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36840" cy="186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1521000" cy="181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177336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9360" y="857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4257720"/>
            <a:ext cx="165564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444672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1562040"/>
            <a:ext cx="1800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57:18Z</dcterms:created>
  <dc:creator>Ashley Ward</dc:creator>
  <dc:description/>
  <dc:language>en-US</dc:language>
  <cp:lastModifiedBy>Ashley Ward</cp:lastModifiedBy>
  <dcterms:modified xsi:type="dcterms:W3CDTF">2003-10-08T07:51:46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32315007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More files for 27B</vt:lpwstr>
  </property>
</Properties>
</file>