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3.png" ContentType="image/png"/>
  <Override PartName="/ppt/media/image29.wmf" ContentType="image/x-wmf"/>
  <Override PartName="/ppt/media/image19.jpeg" ContentType="image/jpeg"/>
  <Override PartName="/ppt/media/image6.wmf" ContentType="image/x-wmf"/>
  <Override PartName="/ppt/media/image4.wmf" ContentType="image/x-wmf"/>
  <Override PartName="/ppt/media/image27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22.wmf" ContentType="image/x-wmf"/>
  <Override PartName="/ppt/media/image11.gif" ContentType="image/gif"/>
  <Override PartName="/ppt/media/image12.gif" ContentType="image/gif"/>
  <Override PartName="/ppt/media/image30.wmf" ContentType="image/x-wmf"/>
  <Override PartName="/ppt/media/image2.png" ContentType="image/png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5.wmf" ContentType="image/x-wmf"/>
  <Override PartName="/ppt/media/image9.gif" ContentType="image/gif"/>
  <Override PartName="/ppt/media/image5.wmf" ContentType="image/x-wmf"/>
  <Override PartName="/ppt/media/image16.jpeg" ContentType="image/jpeg"/>
  <Override PartName="/ppt/media/image13.wmf" ContentType="image/x-wmf"/>
  <Override PartName="/ppt/media/image17.gif" ContentType="image/gif"/>
  <Override PartName="/ppt/media/image14.wmf" ContentType="image/x-wmf"/>
  <Override PartName="/ppt/media/image18.gif" ContentType="image/gif"/>
  <Override PartName="/ppt/media/image20.wmf" ContentType="image/x-wmf"/>
  <Override PartName="/ppt/media/image21.wmf" ContentType="image/x-wmf"/>
  <Override PartName="/ppt/media/image2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554-5AB6-46C8-A502-5EEB1123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211-9E86-401F-A48C-55173A59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828-B9E4-4C67-BFBB-E8298E4B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10F-0D7A-41B4-9336-45B061C5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7C0-8FAB-4983-906D-94966429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45B8-587B-4CD0-8233-F91B0D64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BF5-E9C3-4914-A77C-AA5B263D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F800-B514-44AB-8202-22DDEB32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5B0-B0D5-4D93-A42D-D45F952E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2A80-3943-4074-A0E7-C7C088EB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8B9-11AD-4D09-AF90-0A3C8E1D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9E2-3684-4776-97EF-8E59FC9A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D3DC-4D2D-4D19-9580-FDAF4AF26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28.png"/><Relationship Id="rId17" Type="http://schemas.openxmlformats.org/officeDocument/2006/relationships/image" Target="../media/image28.png"/><Relationship Id="rId18" Type="http://schemas.openxmlformats.org/officeDocument/2006/relationships/image" Target="../media/image28.png"/><Relationship Id="rId19" Type="http://schemas.openxmlformats.org/officeDocument/2006/relationships/image" Target="../media/image28.png"/><Relationship Id="rId20" Type="http://schemas.openxmlformats.org/officeDocument/2006/relationships/image" Target="../media/image28.png"/><Relationship Id="rId21" Type="http://schemas.openxmlformats.org/officeDocument/2006/relationships/image" Target="../media/image28.png"/><Relationship Id="rId22" Type="http://schemas.openxmlformats.org/officeDocument/2006/relationships/image" Target="../media/image28.png"/><Relationship Id="rId23" Type="http://schemas.openxmlformats.org/officeDocument/2006/relationships/image" Target="../media/image28.png"/><Relationship Id="rId24" Type="http://schemas.openxmlformats.org/officeDocument/2006/relationships/image" Target="../media/image28.png"/><Relationship Id="rId2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28.png"/><Relationship Id="rId17" Type="http://schemas.openxmlformats.org/officeDocument/2006/relationships/image" Target="../media/image28.png"/><Relationship Id="rId18" Type="http://schemas.openxmlformats.org/officeDocument/2006/relationships/image" Target="../media/image28.png"/><Relationship Id="rId19" Type="http://schemas.openxmlformats.org/officeDocument/2006/relationships/image" Target="../media/image28.png"/><Relationship Id="rId20" Type="http://schemas.openxmlformats.org/officeDocument/2006/relationships/image" Target="../media/image28.png"/><Relationship Id="rId21" Type="http://schemas.openxmlformats.org/officeDocument/2006/relationships/image" Target="../media/image28.png"/><Relationship Id="rId22" Type="http://schemas.openxmlformats.org/officeDocument/2006/relationships/image" Target="../media/image28.png"/><Relationship Id="rId23" Type="http://schemas.openxmlformats.org/officeDocument/2006/relationships/image" Target="../media/image28.png"/><Relationship Id="rId24" Type="http://schemas.openxmlformats.org/officeDocument/2006/relationships/image" Target="../media/image28.png"/><Relationship Id="rId25" Type="http://schemas.openxmlformats.org/officeDocument/2006/relationships/image" Target="../media/image29.wmf"/><Relationship Id="rId2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16720" y="4292640"/>
            <a:ext cx="31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LEY 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ley@lineofsight.com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40720" y="8571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HOB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87280" y="1771560"/>
            <a:ext cx="1656000" cy="122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227640" y="141300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87280" y="4437000"/>
            <a:ext cx="1729080" cy="1354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156360" y="4365720"/>
            <a:ext cx="165564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50760" y="85716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ROFES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19040" y="1413000"/>
            <a:ext cx="1381320" cy="2087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97680" y="422100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187280" y="458136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6156360" y="1413000"/>
            <a:ext cx="1650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8040" y="8571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1656000" cy="1612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156360" y="4581360"/>
            <a:ext cx="1655640" cy="1119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187280" y="4653000"/>
            <a:ext cx="1584360" cy="647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156360" y="1523880"/>
            <a:ext cx="165564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22160" y="85716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OMMON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ock"/>
          <p:cNvSpPr/>
          <p:nvPr/>
        </p:nvSpPr>
        <p:spPr>
          <a:xfrm>
            <a:off x="1258920" y="1557360"/>
            <a:ext cx="1565280" cy="160344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227640" y="4292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156360" y="1413000"/>
            <a:ext cx="1579680" cy="1827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187280" y="4292640"/>
            <a:ext cx="165600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ETWORKS CAN B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ced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33829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26920" y="479520"/>
            <a:ext cx="34610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3800" y="112536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USINESS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932360" y="58482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867280" y="5300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059280" y="184464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372360" y="450864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6443640" y="335772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6084720" y="249228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5292720" y="18082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211640" y="155736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050920" y="1700280"/>
            <a:ext cx="4608720" cy="439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1979640" y="3348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0"/>
          <a:stretch/>
        </p:blipFill>
        <p:spPr>
          <a:xfrm>
            <a:off x="2411280" y="242100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2050920" y="4437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2627280" y="5300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3635280" y="5877000"/>
            <a:ext cx="297000" cy="296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04160" y="366552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Set 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932360" y="563256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867280" y="5084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122640" y="15573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6372360" y="429264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443640" y="314172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6084720" y="227664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5292720" y="159228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50920" y="1484280"/>
            <a:ext cx="4608720" cy="439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1979640" y="3132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2411280" y="2205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0"/>
          <a:stretch/>
        </p:blipFill>
        <p:spPr>
          <a:xfrm>
            <a:off x="2050920" y="4221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1"/>
          <a:stretch/>
        </p:blipFill>
        <p:spPr>
          <a:xfrm>
            <a:off x="2627280" y="5084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2"/>
          <a:stretch/>
        </p:blipFill>
        <p:spPr>
          <a:xfrm>
            <a:off x="3635280" y="5661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3"/>
          <a:stretch/>
        </p:blipFill>
        <p:spPr>
          <a:xfrm>
            <a:off x="4203720" y="134136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V="1">
            <a:off x="2340000" y="3357720"/>
            <a:ext cx="4032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851280" y="1700280"/>
            <a:ext cx="504720" cy="388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627280" y="1628280"/>
            <a:ext cx="1513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987640" y="4365720"/>
            <a:ext cx="3384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68360" y="3213000"/>
            <a:ext cx="4032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268360" y="2565360"/>
            <a:ext cx="381636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340000" y="1844640"/>
            <a:ext cx="295272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508360" y="1988640"/>
            <a:ext cx="86364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479520"/>
            <a:ext cx="34610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3280" y="78408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Or Inter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932360" y="55594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867280" y="50115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059280" y="155592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6372360" y="421956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6443640" y="3068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6084720" y="220356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5292720" y="15192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4211640" y="126828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050920" y="1411200"/>
            <a:ext cx="4608720" cy="4392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1979640" y="30592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2411280" y="213192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1"/>
          <a:stretch/>
        </p:blipFill>
        <p:spPr>
          <a:xfrm>
            <a:off x="2050920" y="41482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2"/>
          <a:stretch/>
        </p:blipFill>
        <p:spPr>
          <a:xfrm>
            <a:off x="2627280" y="50115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3"/>
          <a:stretch/>
        </p:blipFill>
        <p:spPr>
          <a:xfrm>
            <a:off x="3635280" y="558792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4"/>
          <a:stretch/>
        </p:blipFill>
        <p:spPr>
          <a:xfrm>
            <a:off x="4788000" y="414972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5"/>
          <a:stretch/>
        </p:blipFill>
        <p:spPr>
          <a:xfrm>
            <a:off x="3276720" y="443700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6"/>
          <a:stretch/>
        </p:blipFill>
        <p:spPr>
          <a:xfrm>
            <a:off x="5219640" y="2852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7"/>
          <a:stretch/>
        </p:blipFill>
        <p:spPr>
          <a:xfrm>
            <a:off x="3780000" y="357336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8"/>
          <a:stretch/>
        </p:blipFill>
        <p:spPr>
          <a:xfrm>
            <a:off x="3492360" y="23493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9"/>
          <a:stretch/>
        </p:blipFill>
        <p:spPr>
          <a:xfrm>
            <a:off x="4716360" y="2205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0"/>
          <a:stretch/>
        </p:blipFill>
        <p:spPr>
          <a:xfrm>
            <a:off x="971640" y="443700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1"/>
          <a:stretch/>
        </p:blipFill>
        <p:spPr>
          <a:xfrm>
            <a:off x="6732720" y="126828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2"/>
          <a:stretch/>
        </p:blipFill>
        <p:spPr>
          <a:xfrm>
            <a:off x="900000" y="1197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3"/>
          <a:stretch/>
        </p:blipFill>
        <p:spPr>
          <a:xfrm>
            <a:off x="7164360" y="47973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4"/>
          <a:stretch/>
        </p:blipFill>
        <p:spPr>
          <a:xfrm>
            <a:off x="2771640" y="602136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276720" y="1916280"/>
            <a:ext cx="21564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51280" y="242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268360" y="256536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08360" y="2708280"/>
            <a:ext cx="142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340000" y="3789360"/>
            <a:ext cx="1440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003640" y="1773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411280" y="1557360"/>
            <a:ext cx="4321440" cy="24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48360" y="1628640"/>
            <a:ext cx="28764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6659640" y="4436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187280" y="3357720"/>
            <a:ext cx="7207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1413000"/>
            <a:ext cx="1081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16000" y="1557360"/>
            <a:ext cx="863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58920" y="1268280"/>
            <a:ext cx="1728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779640" y="4005360"/>
            <a:ext cx="215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2436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32360" y="4508640"/>
            <a:ext cx="71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5148000" y="4436640"/>
            <a:ext cx="71892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003640" y="321264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635280" y="429264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579640" y="2997000"/>
            <a:ext cx="792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72360" y="3429000"/>
            <a:ext cx="21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659640" y="1699920"/>
            <a:ext cx="1443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572000" y="1268280"/>
            <a:ext cx="2160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479520"/>
            <a:ext cx="34610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68000" y="7840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 Larg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932360" y="55594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867280" y="50115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3059280" y="155592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6372360" y="421956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6443640" y="3068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6084720" y="220356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5292720" y="15192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4211640" y="126828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050920" y="1411200"/>
            <a:ext cx="4608720" cy="4392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9"/>
          <a:stretch/>
        </p:blipFill>
        <p:spPr>
          <a:xfrm>
            <a:off x="1979640" y="30592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0"/>
          <a:stretch/>
        </p:blipFill>
        <p:spPr>
          <a:xfrm>
            <a:off x="2411280" y="213192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1"/>
          <a:stretch/>
        </p:blipFill>
        <p:spPr>
          <a:xfrm>
            <a:off x="2050920" y="41482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2"/>
          <a:stretch/>
        </p:blipFill>
        <p:spPr>
          <a:xfrm>
            <a:off x="2627280" y="50115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3"/>
          <a:stretch/>
        </p:blipFill>
        <p:spPr>
          <a:xfrm>
            <a:off x="3635280" y="558792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4"/>
          <a:stretch/>
        </p:blipFill>
        <p:spPr>
          <a:xfrm>
            <a:off x="4788000" y="414972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5"/>
          <a:stretch/>
        </p:blipFill>
        <p:spPr>
          <a:xfrm>
            <a:off x="3276720" y="443700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6"/>
          <a:stretch/>
        </p:blipFill>
        <p:spPr>
          <a:xfrm>
            <a:off x="5219640" y="2852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7"/>
          <a:stretch/>
        </p:blipFill>
        <p:spPr>
          <a:xfrm>
            <a:off x="3780000" y="357336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8"/>
          <a:stretch/>
        </p:blipFill>
        <p:spPr>
          <a:xfrm>
            <a:off x="3492360" y="23493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9"/>
          <a:stretch/>
        </p:blipFill>
        <p:spPr>
          <a:xfrm>
            <a:off x="4716360" y="2205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0"/>
          <a:stretch/>
        </p:blipFill>
        <p:spPr>
          <a:xfrm>
            <a:off x="971640" y="443700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1"/>
          <a:stretch/>
        </p:blipFill>
        <p:spPr>
          <a:xfrm>
            <a:off x="6732720" y="126828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2"/>
          <a:stretch/>
        </p:blipFill>
        <p:spPr>
          <a:xfrm>
            <a:off x="900000" y="1197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3"/>
          <a:stretch/>
        </p:blipFill>
        <p:spPr>
          <a:xfrm>
            <a:off x="7164360" y="47973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4"/>
          <a:stretch/>
        </p:blipFill>
        <p:spPr>
          <a:xfrm>
            <a:off x="2771640" y="602136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76720" y="1916280"/>
            <a:ext cx="21564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242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268360" y="256536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08360" y="2708280"/>
            <a:ext cx="142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340000" y="3789360"/>
            <a:ext cx="1440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003640" y="1773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411280" y="1557360"/>
            <a:ext cx="4321440" cy="24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48360" y="1628640"/>
            <a:ext cx="28764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6659640" y="4436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187280" y="3357720"/>
            <a:ext cx="7207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7280" y="1413000"/>
            <a:ext cx="1081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16000" y="1557360"/>
            <a:ext cx="863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58920" y="1268280"/>
            <a:ext cx="1728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779640" y="4005360"/>
            <a:ext cx="215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2360" y="4508640"/>
            <a:ext cx="71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5148000" y="4436640"/>
            <a:ext cx="71892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003640" y="321264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635280" y="429264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579640" y="2997000"/>
            <a:ext cx="792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372360" y="3429000"/>
            <a:ext cx="21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659640" y="1699920"/>
            <a:ext cx="1443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572000" y="1268280"/>
            <a:ext cx="2160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5"/>
          <a:stretch/>
        </p:blipFill>
        <p:spPr>
          <a:xfrm>
            <a:off x="3348000" y="2492280"/>
            <a:ext cx="2303640" cy="19796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826920" y="479520"/>
            <a:ext cx="34610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61480" y="7840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l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340000" y="2340000"/>
            <a:ext cx="4583160" cy="2889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826920" y="479520"/>
            <a:ext cx="34610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39600" y="10731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More Linear in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2440" y="3753000"/>
            <a:ext cx="37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NET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NETWORK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nec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ding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reate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vid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ive ins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mote oth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rket intel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mote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mote friend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ssists a common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81120" y="2128680"/>
            <a:ext cx="35892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310120" y="712800"/>
            <a:ext cx="42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POINTS TO 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6920" y="1916280"/>
            <a:ext cx="720108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tworks can either work for you or agains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tworks must be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usiness cards are the most effective tool – use them wis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971640" y="2060640"/>
            <a:ext cx="698508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tworks must be worked to be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You will only get out what you pu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You must identify the value pro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310120" y="712800"/>
            <a:ext cx="42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POINTS TO 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11280" y="620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09376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estyle Script"/>
              </a:rPr>
              <a:t>The process of leveraging contacts and contacts of contacts in the furtherance of personal and busines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82920" y="620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IM OF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79840" y="1457280"/>
            <a:ext cx="1712880" cy="1827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71640" y="385128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estyle Script"/>
              </a:rPr>
              <a:t>To barter information, knowledge and influence to give personal or business advantage and to achieve specific objectives through non-specific me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82920" y="620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IM OF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79840" y="1457280"/>
            <a:ext cx="1712880" cy="182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0000" y="413388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estyle Script"/>
              </a:rPr>
              <a:t>To create opportunity for a great ‘boon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43640" y="1413000"/>
            <a:ext cx="1197000" cy="187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443640" y="4149720"/>
            <a:ext cx="1197000" cy="1873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476360" y="4221000"/>
            <a:ext cx="1197000" cy="187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476360" y="1484280"/>
            <a:ext cx="1197000" cy="1873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5680" y="85716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LD BO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29760" y="85716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LD GIR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1315800" cy="1942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280200" y="1413000"/>
            <a:ext cx="131616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332000" y="4221000"/>
            <a:ext cx="1315800" cy="194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329520" y="4149720"/>
            <a:ext cx="12668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90080" y="85716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LD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1392480" cy="1865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58920" y="4292640"/>
            <a:ext cx="1536840" cy="1861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227640" y="1484280"/>
            <a:ext cx="1521000" cy="1817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16000" y="1773360"/>
            <a:ext cx="18115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69360" y="8571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4257720"/>
            <a:ext cx="1655640" cy="1619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187280" y="4446720"/>
            <a:ext cx="1656000" cy="1214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084720" y="1562040"/>
            <a:ext cx="180036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02:57:18Z</dcterms:created>
  <dc:creator>Ashley Ward</dc:creator>
  <dc:description/>
  <dc:language>en-US</dc:language>
  <cp:lastModifiedBy>Ashley Ward</cp:lastModifiedBy>
  <dcterms:modified xsi:type="dcterms:W3CDTF">2003-10-08T07:51:46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32315007</vt:r8>
  </property>
  <property fmtid="{D5CDD505-2E9C-101B-9397-08002B2CF9AE}" pid="3" name="_AuthorEmail">
    <vt:lpwstr>ashley@lineofsight.com.au</vt:lpwstr>
  </property>
  <property fmtid="{D5CDD505-2E9C-101B-9397-08002B2CF9AE}" pid="4" name="_AuthorEmailDisplayName">
    <vt:lpwstr>Ashley Ward</vt:lpwstr>
  </property>
  <property fmtid="{D5CDD505-2E9C-101B-9397-08002B2CF9AE}" pid="5" name="_EmailSubject">
    <vt:lpwstr>More files for 27B</vt:lpwstr>
  </property>
</Properties>
</file>