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3.png" ContentType="image/png"/>
  <Override PartName="/ppt/media/image29.wmf" ContentType="image/x-wmf"/>
  <Override PartName="/ppt/media/image19.jpeg" ContentType="image/jpeg"/>
  <Override PartName="/ppt/media/image6.wmf" ContentType="image/x-wmf"/>
  <Override PartName="/ppt/media/image4.wmf" ContentType="image/x-wmf"/>
  <Override PartName="/ppt/media/image27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22.wmf" ContentType="image/x-wmf"/>
  <Override PartName="/ppt/media/image11.gif" ContentType="image/gif"/>
  <Override PartName="/ppt/media/image12.gif" ContentType="image/gif"/>
  <Override PartName="/ppt/media/image30.wmf" ContentType="image/x-wmf"/>
  <Override PartName="/ppt/media/image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wmf" ContentType="image/x-wmf"/>
  <Override PartName="/ppt/media/image9.gif" ContentType="image/gif"/>
  <Override PartName="/ppt/media/image5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20.wmf" ContentType="image/x-wmf"/>
  <Override PartName="/ppt/media/image21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AA7-5709-4D2F-BA1B-F8DE1213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B80-79F0-4103-88B0-414C713D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E26-71CF-4AC0-9A33-6013859E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FC3-F7C1-4178-9C96-93E0FAE3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2AA-9270-4777-A9C4-D1A8A05A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A23-582D-4CBA-B85B-325D2536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4CD-4587-40DC-A52E-AE72FAF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060-59B2-444E-9C40-3967BB2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07C-CD03-4071-83F8-13AB297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401-A6C5-4F7F-84B0-E267B1C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B46-0064-45D5-AC0E-1A818936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741-638D-47D8-80FD-5C51D4F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FFC-FE20-4689-8DF9-6F5C6811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8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9.wmf"/><Relationship Id="rId2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16720" y="429264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ley@lineofsigh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720" y="8571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HO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771560"/>
            <a:ext cx="1656000" cy="122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1729080" cy="135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165564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0760" y="85716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19040" y="1413000"/>
            <a:ext cx="138132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97680" y="422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4581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1650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8040" y="857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1656000" cy="1612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56360" y="4581360"/>
            <a:ext cx="1655640" cy="1119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584360" cy="64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1523880"/>
            <a:ext cx="16556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2160" y="857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MMON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ock"/>
          <p:cNvSpPr/>
          <p:nvPr/>
        </p:nvSpPr>
        <p:spPr>
          <a:xfrm>
            <a:off x="1258920" y="1557360"/>
            <a:ext cx="1565280" cy="160344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56360" y="1413000"/>
            <a:ext cx="1579680" cy="1827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16560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S CAN B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3829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11253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SIN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5848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86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372360" y="45086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443640" y="3357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084720" y="249228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5292720" y="180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211640" y="1557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050920" y="1700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979640" y="3348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2411280" y="242100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2050920" y="443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2627280" y="5300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97000" cy="296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04160" y="366552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Set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5632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86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22640" y="155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084720" y="227664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292720" y="1592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148428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1979640" y="3132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050920" y="422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627280" y="5084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3635280" y="5661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"/>
          <a:stretch/>
        </p:blipFill>
        <p:spPr>
          <a:xfrm>
            <a:off x="4203720" y="134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340000" y="3357720"/>
            <a:ext cx="403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851280" y="1700280"/>
            <a:ext cx="50472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627280" y="1628280"/>
            <a:ext cx="151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987640" y="4365720"/>
            <a:ext cx="338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3213000"/>
            <a:ext cx="4032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268360" y="2565360"/>
            <a:ext cx="3816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340000" y="1844640"/>
            <a:ext cx="2952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508360" y="1988640"/>
            <a:ext cx="86364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3280" y="784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8000" y="7840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 Lar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932360" y="55594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059280" y="155592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372360" y="42195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443640" y="3068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084720" y="220356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5292720" y="15192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4211640" y="126828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050920" y="1411200"/>
            <a:ext cx="4608720" cy="4392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979640" y="3059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2411280" y="2131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2050920" y="4148280"/>
            <a:ext cx="297000" cy="296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2627280" y="50115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3"/>
          <a:stretch/>
        </p:blipFill>
        <p:spPr>
          <a:xfrm>
            <a:off x="3635280" y="558792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4"/>
          <a:stretch/>
        </p:blipFill>
        <p:spPr>
          <a:xfrm>
            <a:off x="4788000" y="414972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5"/>
          <a:stretch/>
        </p:blipFill>
        <p:spPr>
          <a:xfrm>
            <a:off x="327672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6"/>
          <a:stretch/>
        </p:blipFill>
        <p:spPr>
          <a:xfrm>
            <a:off x="5219640" y="285264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7"/>
          <a:stretch/>
        </p:blipFill>
        <p:spPr>
          <a:xfrm>
            <a:off x="3780000" y="357336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8"/>
          <a:stretch/>
        </p:blipFill>
        <p:spPr>
          <a:xfrm>
            <a:off x="3492360" y="2349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9"/>
          <a:stretch/>
        </p:blipFill>
        <p:spPr>
          <a:xfrm>
            <a:off x="4716360" y="2205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0"/>
          <a:stretch/>
        </p:blipFill>
        <p:spPr>
          <a:xfrm>
            <a:off x="971640" y="4437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1"/>
          <a:stretch/>
        </p:blipFill>
        <p:spPr>
          <a:xfrm>
            <a:off x="6732720" y="126828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2"/>
          <a:stretch/>
        </p:blipFill>
        <p:spPr>
          <a:xfrm>
            <a:off x="900000" y="119700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3"/>
          <a:stretch/>
        </p:blipFill>
        <p:spPr>
          <a:xfrm>
            <a:off x="7164360" y="4797360"/>
            <a:ext cx="297000" cy="297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771640" y="602136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76720" y="191628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24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8360" y="2565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2708280"/>
            <a:ext cx="142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40000" y="378936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003640" y="177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411280" y="1557360"/>
            <a:ext cx="432144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48360" y="1628640"/>
            <a:ext cx="28764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659640" y="4436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187280" y="3357720"/>
            <a:ext cx="720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7280" y="141300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6000" y="1557360"/>
            <a:ext cx="863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268280"/>
            <a:ext cx="1728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779640" y="4005360"/>
            <a:ext cx="215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2360" y="450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5148000" y="443664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03640" y="321264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635280" y="429264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79640" y="2997000"/>
            <a:ext cx="79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72360" y="342900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659640" y="1699920"/>
            <a:ext cx="144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72000" y="1268280"/>
            <a:ext cx="2160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5"/>
          <a:stretch/>
        </p:blipFill>
        <p:spPr>
          <a:xfrm>
            <a:off x="3348000" y="2492280"/>
            <a:ext cx="2303640" cy="1979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1480" y="7840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40000" y="2340000"/>
            <a:ext cx="4583160" cy="2889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26920" y="479520"/>
            <a:ext cx="34610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39600" y="1073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More Linear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AITTW027B – Relate to Clients on a Business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2440" y="3753000"/>
            <a:ext cx="37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NETWORK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ne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d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reate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i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 ins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rket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mote friend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ists a common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1120" y="2128680"/>
            <a:ext cx="3589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916280"/>
            <a:ext cx="7201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can either work for you or agains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usiness cards are the most effective tool – use them wis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71640" y="2060640"/>
            <a:ext cx="698508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must be worked to b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will only get out what you pu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ou must identify the value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0120" y="71280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POINTS TO 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1128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0937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he process of leveraging contacts and contacts of contacts in the furtherance of personal and busines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3851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barter information, knowledge and influence to give personal or business advantage and to achieve specific objectives through non-specific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2920" y="62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IM OF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9840" y="1457280"/>
            <a:ext cx="1712880" cy="182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41338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To create opportunity for a great ‘boon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197000" cy="187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76360" y="1484280"/>
            <a:ext cx="1197000" cy="1873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5680" y="85716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9760" y="857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315800" cy="1942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80200" y="1413000"/>
            <a:ext cx="131616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131580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29520" y="4149720"/>
            <a:ext cx="12668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0080" y="85716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L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139248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1536840" cy="186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1521000" cy="1817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1773360"/>
            <a:ext cx="1811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77080" y="49680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YPES OF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3280" y="126828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3280" y="400536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7664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1339920"/>
            <a:ext cx="180036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16280"/>
            <a:ext cx="2735280" cy="288720"/>
          </a:xfrm>
          <a:prstGeom prst="leftRightArrow">
            <a:avLst>
              <a:gd name="adj1" fmla="val 50000"/>
              <a:gd name="adj2" fmla="val 188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13360"/>
            <a:ext cx="2735280" cy="287280"/>
          </a:xfrm>
          <a:prstGeom prst="leftRightArrow">
            <a:avLst>
              <a:gd name="adj1" fmla="val 50000"/>
              <a:gd name="adj2" fmla="val 1895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83800">
            <a:off x="3058920" y="3502080"/>
            <a:ext cx="2736720" cy="287280"/>
          </a:xfrm>
          <a:prstGeom prst="leftRightArrow">
            <a:avLst>
              <a:gd name="adj1" fmla="val 50000"/>
              <a:gd name="adj2" fmla="val 1896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335600">
            <a:off x="3203640" y="3500280"/>
            <a:ext cx="2735280" cy="287640"/>
          </a:xfrm>
          <a:prstGeom prst="leftRightArrow">
            <a:avLst>
              <a:gd name="adj1" fmla="val 50000"/>
              <a:gd name="adj2" fmla="val 189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9360" y="8571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4257720"/>
            <a:ext cx="165564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4446720"/>
            <a:ext cx="1656000" cy="121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084720" y="1562040"/>
            <a:ext cx="18003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02:57:18Z</dcterms:created>
  <dc:creator>Ashley Ward</dc:creator>
  <dc:description/>
  <dc:language>en-US</dc:language>
  <cp:lastModifiedBy>Ashley Ward</cp:lastModifiedBy>
  <dcterms:modified xsi:type="dcterms:W3CDTF">2003-10-08T07:51:46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32315007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More files for 27B</vt:lpwstr>
  </property>
</Properties>
</file>