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1838-383B-4C3C-8E6C-777A14BF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5603-4E04-48A5-91B8-2B14B870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8E3A-B655-4100-9A58-8F23531B3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4E1D-6E47-4563-BEB2-DE265BBCD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3814-2793-424A-9367-FB3CC588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0953-5F01-4C2E-845A-AA4864BE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B7DC-5D38-4D18-BA71-5ACB76F0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97CC-D0FB-4FD9-8DD2-B03D16C5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225C-343C-4448-9419-252A2E71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B74C-E404-4748-830C-412227FF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03B7-BEC5-4960-B600-1CB2939E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2CDB-F1C0-497B-8332-7DFD2B1C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B54B-C198-437A-AECF-2A047DDBD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33"/>
                </a:solidFill>
                <a:latin typeface="Arial"/>
              </a:rPr>
              <a:t>PROVIDE ONE TO ONE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ETERMINE CLIENT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HAT IS ONE TO ONE INSTRU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3848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33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dividual co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3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ne to one brief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3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andover/takeo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300720" y="2060640"/>
            <a:ext cx="18018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UNDERSTANDING WHAT THE CLIENT DOES NOT K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ctive questioning must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ok for client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 able to specify what the client does not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940360" y="2349360"/>
            <a:ext cx="295272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NSTRUCTIONAL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40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are the physical parameters of the instructional enviro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40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access will you have to the cli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40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 the appropriate equipment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NSTRUCTIONAL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35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time will you ne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5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degree of urgenc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5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e there costs associated with the instru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78520" y="2128680"/>
            <a:ext cx="317664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FORMAL OR INF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st one to one instruction is inf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rmal instruction is used when safety, cost, complexity are key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y be a combination of formal and inf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938920" y="1844640"/>
            <a:ext cx="235908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GENERAL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2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oes the person undergoing instruction speak good Engl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2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 the base technical knowledge of the person being instructed sufficient to foster understanding of the new mater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2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re their likely to be legal ramifications arising from the instruc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08:37:35Z</dcterms:created>
  <dc:creator>User</dc:creator>
  <dc:description/>
  <dc:language>en-US</dc:language>
  <cp:lastModifiedBy>User</cp:lastModifiedBy>
  <dcterms:modified xsi:type="dcterms:W3CDTF">2005-03-07T08:53:09Z</dcterms:modified>
  <cp:revision>4</cp:revision>
  <dc:subject/>
  <dc:title>PROVIDE ONE TO ONE INSTR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20816584</vt:r8>
  </property>
  <property fmtid="{D5CDD505-2E9C-101B-9397-08002B2CF9AE}" pid="3" name="_AuthorEmail">
    <vt:lpwstr>ashley@lineofsight.com.au</vt:lpwstr>
  </property>
  <property fmtid="{D5CDD505-2E9C-101B-9397-08002B2CF9AE}" pid="4" name="_AuthorEmailDisplayName">
    <vt:lpwstr>Ashley Ward</vt:lpwstr>
  </property>
  <property fmtid="{D5CDD505-2E9C-101B-9397-08002B2CF9AE}" pid="5" name="_EmailSubject">
    <vt:lpwstr>Attachments per previous email</vt:lpwstr>
  </property>
</Properties>
</file>