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249-748D-426C-A791-87063D59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D67-9252-459C-A764-96FE18EF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EAA-E649-4452-9DC9-09E4C13B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E44-7FC6-418A-B715-0FADE780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D38-D713-428B-ABD2-7EE58117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946-B3D4-4161-BA36-E7566AE4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23E-57C5-4CC6-8384-1DB674AA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53B-A767-4D9D-8FB0-5A9C1B33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A1E-C1B2-4B74-994D-32050E3C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44F-1BC2-46FF-AEE0-5C194CC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FE1-140A-415E-A6AF-C9E95AB3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808-C69F-4A60-9088-5EF330F0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E226-A8CA-48AB-86FA-05A77E36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PROVIDE ONE TO ON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TERMINE CLI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HAT IS ONE TO ONE INSTR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 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e to one brie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ndover/take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1801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NDERSTANDING WHAT THE CLIENT DOES NOT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e questioning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k for client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 able to specify what the client does no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952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RU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re the physical parameters of the instructional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ccess will you have to the cl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ppropriate equipment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RU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time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degree of urg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there costs associated with the instr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8520" y="2128680"/>
            <a:ext cx="3176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FORMAL OR 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st one to one instruction is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mal instruction is used when safety, cost, complexity are ke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a combination of formal and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38920" y="1844640"/>
            <a:ext cx="23590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NER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es the person undergoing instruction speak good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base technical knowledge of the person being instructed sufficient to foster understanding of the new mate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their likely to be legal ramifications arising from the instruc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8:37:35Z</dcterms:created>
  <dc:creator>User</dc:creator>
  <dc:description/>
  <dc:language>en-US</dc:language>
  <cp:lastModifiedBy>User</cp:lastModifiedBy>
  <dcterms:modified xsi:type="dcterms:W3CDTF">2005-03-07T08:53:09Z</dcterms:modified>
  <cp:revision>4</cp:revision>
  <dc:subject/>
  <dc:title>PROVIDE ONE TO ONE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0816584</vt:r8>
  </property>
  <property fmtid="{D5CDD505-2E9C-101B-9397-08002B2CF9AE}" pid="3" name="_AuthorEmail">
    <vt:lpwstr>ashley@lineofsight.com.au</vt:lpwstr>
  </property>
  <property fmtid="{D5CDD505-2E9C-101B-9397-08002B2CF9AE}" pid="4" name="_AuthorEmailDisplayName">
    <vt:lpwstr>Ashley Ward</vt:lpwstr>
  </property>
  <property fmtid="{D5CDD505-2E9C-101B-9397-08002B2CF9AE}" pid="5" name="_EmailSubject">
    <vt:lpwstr>Attachments per previous email</vt:lpwstr>
  </property>
</Properties>
</file>