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E1C-4BBC-414F-9EF1-8BE3C0EB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31B-E965-4E38-A23C-8C312477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BD5-E7FE-4431-95AC-DBD9821E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1B3-D838-42AC-8CF0-59B14598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D10-69A1-4450-B925-3D09C752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254-5B43-4510-AFF6-B01B90CC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88E-CA4B-4121-A44D-C1422DD1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3A1-7DCC-418F-9460-F08EE8F8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3A8-60F2-409E-A332-1110DA31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B58-8934-4107-A850-3652EDA1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ED2-1342-46ED-BFBA-232DBFBE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5E5-6D26-49A3-88A5-C11B7AFA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1E03-8612-47F2-9858-ADF795C18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PROVIDE ONE TO ON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TERMINE CLIENT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HAT IS ONE TO ONE INSTR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vidual co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e to one brie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ndover/take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1801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NDERSTANDING WHAT THE CLIENT DOES NOT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e questioning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k for client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 able to specify what the client does no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2952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RU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are the physical parameters of the instructional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access will you have to the cl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ppropriate equipment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RU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time will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degree of urg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there costs associated with the instr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8520" y="2128680"/>
            <a:ext cx="3176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FORMAL OR IN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st one to one instruction is 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mal instruction is used when safety, cost, complexity are ke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be a combination of formal and 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38920" y="1844640"/>
            <a:ext cx="23590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NER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es the person undergoing instruction speak good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base technical knowledge of the person being instructed sufficient to foster understanding of the new mate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their likely to be legal ramifications arising from the instruc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8:37:35Z</dcterms:created>
  <dc:creator>User</dc:creator>
  <dc:description/>
  <dc:language>en-US</dc:language>
  <cp:lastModifiedBy>User</cp:lastModifiedBy>
  <dcterms:modified xsi:type="dcterms:W3CDTF">2005-03-07T08:53:09Z</dcterms:modified>
  <cp:revision>4</cp:revision>
  <dc:subject/>
  <dc:title>PROVIDE ONE TO ONE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0816584</vt:r8>
  </property>
  <property fmtid="{D5CDD505-2E9C-101B-9397-08002B2CF9AE}" pid="3" name="_AuthorEmail">
    <vt:lpwstr>ashley@lineofsight.com.au</vt:lpwstr>
  </property>
  <property fmtid="{D5CDD505-2E9C-101B-9397-08002B2CF9AE}" pid="4" name="_AuthorEmailDisplayName">
    <vt:lpwstr>Ashley Ward</vt:lpwstr>
  </property>
  <property fmtid="{D5CDD505-2E9C-101B-9397-08002B2CF9AE}" pid="5" name="_EmailSubject">
    <vt:lpwstr>Attachments per previous email</vt:lpwstr>
  </property>
</Properties>
</file>