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525-87B2-4D48-9AF0-C2851BE2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985-2E80-4101-A573-2FB5F05C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D96-B394-4B55-B7AE-B4032587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581-4A17-41D2-AF37-A35D519A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3A4-7D00-49B0-AC95-F79ED042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857-EEF8-408D-BD92-CC49D200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A03-2B55-4A6B-A055-EAFC6DC0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0D9-3FD1-4DB0-AB41-7B555F09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701-0203-4920-B191-34CD1AA1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DF6-19DD-4B15-BABA-E78DB30E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BF2-945B-4B12-9CA3-8CED909B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49CD-96EC-4D2A-935C-5323D4BC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DE6F-6E02-4E57-9A1C-D493E0769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PROVIDE ONE TO ONE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TERMINE CLIENT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HAT IS ONE TO ONE INSTR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3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dividual co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3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e to one brie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3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ndover/take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300720" y="2060640"/>
            <a:ext cx="18018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NDERSTANDING WHAT THE CLIENT DOES NOT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tive questioning mus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k for client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 able to specify what the client does no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29527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STRU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are the physical parameters of the instructional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access will you have to the cli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ppropriate equipment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STRU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time will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degree of urg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there costs associated with the instr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8520" y="2128680"/>
            <a:ext cx="3176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FORMAL OR IN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st one to one instruction is 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mal instruction is used when safety, cost, complexity are key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be a combination of formal and in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38920" y="1844640"/>
            <a:ext cx="23590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GENER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es the person undergoing instruction speak good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base technical knowledge of the person being instructed sufficient to foster understanding of the new mater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e their likely to be legal ramifications arising from the instruc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8:37:35Z</dcterms:created>
  <dc:creator>User</dc:creator>
  <dc:description/>
  <dc:language>en-US</dc:language>
  <cp:lastModifiedBy>User</cp:lastModifiedBy>
  <dcterms:modified xsi:type="dcterms:W3CDTF">2005-03-07T08:53:09Z</dcterms:modified>
  <cp:revision>4</cp:revision>
  <dc:subject/>
  <dc:title>PROVIDE ONE TO ONE INSTR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0816584</vt:r8>
  </property>
  <property fmtid="{D5CDD505-2E9C-101B-9397-08002B2CF9AE}" pid="3" name="_AuthorEmail">
    <vt:lpwstr>ashley@lineofsight.com.au</vt:lpwstr>
  </property>
  <property fmtid="{D5CDD505-2E9C-101B-9397-08002B2CF9AE}" pid="4" name="_AuthorEmailDisplayName">
    <vt:lpwstr>Ashley Ward</vt:lpwstr>
  </property>
  <property fmtid="{D5CDD505-2E9C-101B-9397-08002B2CF9AE}" pid="5" name="_EmailSubject">
    <vt:lpwstr>Attachments per previous email</vt:lpwstr>
  </property>
</Properties>
</file>